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coin.wav" ContentType="audio/x-wav"/>
  <Override PartName="/ppt/media/image4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4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F747-5929-4E28-A349-337F77B15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ftr" idx="4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 type="sldNum" idx="4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ABE-5E6D-482D-AEF2-A5264AEE5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C21B-CC8A-42D7-B335-19DF7C9E5B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7FB5-3E96-4088-9619-C909268B02FC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0BC0-3EA5-4798-8ADA-8FA11537B423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56F-E60A-4E07-98BA-DDC741B9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F00-DE68-4113-A030-8F46900D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F5AB2-1B80-4B8B-9096-C57EFE76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9CA49-D5C0-4457-A065-A8EA541C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1DF0C-7978-46D5-9A03-FB3DD92D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74BA6-86F1-43AD-8DF4-C458B46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EDD34-9D53-4256-97AB-F8E2307E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2F4EC-26B0-4D42-A5DA-E0656919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04F12-F632-49B4-B3F4-F8060FAF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97C5B-8D40-415C-B8A7-41BA283D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EE513-A5ED-4AC0-B96E-37F36A88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E00B3-FF82-42D1-AC55-A67551A8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3B6-E86D-4190-988C-626B33E3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6D1E3-ED00-4A6D-9F27-7117B96D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E11E7-E27F-4353-94D1-9D9DFAB7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2862B-4C8B-4666-A5A9-E11C1817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1C353-3580-4FA3-A6B4-8D1DE7D9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68AA9-3FE5-4525-BC44-53B95E12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DA7EF-6690-4AB9-BD6A-CD0CAC92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D84D6-6B43-4517-91C0-F03809D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31CFF-13C3-4A9B-AC70-87A35FB4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0F5FE-34C6-4248-943B-F8BB48E1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E657B-822D-4095-8193-5E9100DC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A5C-D89D-4220-AC39-4FB557A2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9E451-90F1-45FC-9481-445DF941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5C0D-252F-4146-B40E-58347837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36FA-0544-4832-BC40-7BFCB742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9DB8BA-06A4-4C5F-80EF-CE8D8365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CFA926-DDF2-40A1-A054-CBE0375A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E2E159-A803-433A-952C-18B4D839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447DDC-BE33-4779-8E1D-90ED1186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CD0617-1FB1-487E-9BF1-0C9EE348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87E6-B9E1-4A96-98A5-0786031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97E41F-EC6A-432A-90E7-DDD8FD6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5DF20B-44A9-4FFD-AB47-4DADA691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799689-C25F-4037-A274-05CE311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1E3ADF-04D0-47F1-BD54-6F5D9E24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EBA455-DD1F-4C92-B196-8A5EDFCF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8C01AC-477F-419D-92E1-A44AF039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BDB17D-0F0E-4C57-B167-0DA45F96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7ACC56-A5CA-4377-86AB-D3914309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967F36-94A6-4CDF-829F-A6E31CC7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3B32CC-E244-4592-94F1-272DE785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94C-7D93-4B59-A339-AD965333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AB3A35-F1C9-4915-88F8-E318A000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A39E7D-DDC5-48F3-81C4-5F780291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81514C-D185-4130-87C9-A0C32DC4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FCE836-4D31-454D-ABD2-A02611C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F22B4F-1B1A-445C-AFED-2E35D8D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265185-1275-4868-B906-607A973E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39F978-3BEF-443A-9C14-0A8D0D47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BAEA05-E5F6-4BE8-A581-5FF58D69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B7E817-FF9E-4CCC-A3E6-D619A07E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DE467C-60D8-434E-97B1-EEFA4C6E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DEBF-5F44-411C-AC12-006BF670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64B47B-00BE-40DD-92C1-6270981A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E84AFE-0314-4B64-9581-40A05553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A71DB1-344D-4C99-A4FF-4109E9F3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657BAA-28E4-4806-B98D-B592A549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F8A8E2-AF43-4306-AB9F-B81446A1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2F18AF-3A02-4F6C-949B-C4E8A330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C83110-1C35-44CE-8F42-AE59866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76835E7-F702-43C3-828C-BB1D611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CFCABC-F6B6-45AB-8E09-9BBCE453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97AD65-C730-4937-9871-DD1229A1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3C6A-06F7-46C7-BBA0-5E461226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C1A447-8FC8-4989-BB44-7F1C7D74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888F85-59FA-4E6A-B8C8-E1C8B872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B2BEE4-C993-46B1-8A62-A10290D0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CF338F-4486-4BCF-8F2F-9383E083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60CA25-D1A4-4E9A-8FF0-33DE74F1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A97ADB-342F-4327-B7F8-3D2BCC46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0121B6-1E9A-4F8F-ADA5-56DB4917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04808E-D7B3-4E75-ACB6-6DCEE246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8B46C3-ACC5-44B7-B5C0-01AE1C49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92288D-A864-43B4-8B3D-8800C25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8758-1ED9-414F-A7A4-72E6FDCE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8D148D-80ED-485F-96DD-B80E6AF8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2FA6CB-3544-4F20-A698-00685313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4C9C5F-F505-4D1F-9B28-9E2ED1E6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DCA-0DB4-461C-A62C-94C98785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7F28-68C6-4F44-99D6-69276A2D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DAE8-186E-4A11-B534-C16FAF9D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8B90-9B3E-4461-A136-F7E63C38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0A3F-A95B-4B17-820D-69B275D7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A28E-A81E-43E2-98FA-7F3ECBF9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97807-F60B-4024-B79C-EBDFFBCC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11A3-8741-494D-8338-776FD3B7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9C53-2563-496F-8CF4-9C5C41E2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B1B8-0F6A-4014-9747-3480F3BC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0705-54DD-4505-A98C-B08F1A5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072-1E4B-4B8C-8DFA-6C77DD84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BFDF-5E43-42F1-AD38-6E4AEB3D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A7972-A01A-4B8B-8982-492227D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C401-1E6C-4CD0-B06A-018EAB47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F457-FC1C-4518-9CCE-8E1F500E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4923-D60A-4C3C-801E-17500DCE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687E-D48C-44ED-AEBD-61302090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C4A4-C0FF-4D90-95CD-C4C9891E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1FAB0-02EC-4B66-A7ED-0E53E3CC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88CD-58DF-487F-9412-A769DCBA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33B9-63CD-4DDF-A419-02241219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11E-5320-45A9-BB3F-9CC63672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F4A15-2B68-4663-BE91-8BAF9A60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053E-57EA-46B3-B549-FC057422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5DD8-F20A-4664-AD31-C360B87F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D1EF-2619-49A3-9A65-F8D47A54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784EB-29A8-42E6-8CC7-9154BB41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381AE-8DF2-49AB-A068-81724A4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9CCA-B494-4A2A-950D-4E5D4D1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4212-7C7F-4C4C-BBA7-861C260D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6AEF-AE23-4EEC-A44F-BFD31537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4673B-7A54-42B6-B127-658251AE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993-383C-4DEF-A5E8-031FF709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E3FB-C14C-498D-8F51-984F33A5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1CBE-727D-4F2B-8CCF-C0D2F228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7AA2B-C044-467F-BC79-65CFBC27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B693-B5AA-422F-8A9A-1B922AAF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83518-3809-4B38-A76E-BB5351F6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5D59B-5FD6-4450-995D-3720439B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3564E-E7ED-4228-B15D-E2E5F6AA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ABC94-EB0D-4654-84B7-8B2EF8E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AA2D-3789-41D0-8F6C-D58B36B3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FF96-2D9D-4CFC-9D9C-947F0287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F77-FEFC-4318-9E15-82BA8C85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D3759-0039-4FF8-ABB5-EB51C62C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FC954-20FE-42D2-9E83-47B73062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2EB46-5C87-467E-976E-8DE518FE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A0C8-937C-45B1-9C7F-9A6ED70D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276A9-922D-4E35-A3D4-7ECEEF0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EFE4-5A9C-4157-B817-DE159928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23937-0434-4507-8C5F-FB207E1A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C5616-5A71-43DD-8C0D-E21893D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0FABF-08DA-4951-842A-59BF3E4A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77933-7C2B-4004-BB82-1D84C198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0D7-B9AC-4FC0-BFD8-B6E292F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9039-0213-4044-A396-E3408C7A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93B53-06A9-441C-BD0A-506D0F1E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5151A-1F64-4ED5-9398-F45E07D1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717D5-2029-40DB-8172-03527C6D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C3058-9C46-4FC7-8762-3DB31215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8565-EFE0-48BA-8A58-7D8458B7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936B1-2498-4849-BD6A-45398ACE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06681-06E8-4EB1-9F6E-3641C0CA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70FDF-6F05-4714-992F-B955A102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1F81-2DF8-41F7-857D-9BEBA61E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908-DA02-4021-916D-0421585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9E6B0-5EAA-4D61-9741-62F5300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EF56-1474-4071-9BA6-FFE2E87B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2BBF-5E4F-4354-81F7-2BCFC272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E8BFA-961C-4A28-BB74-C087FAE2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A90FF-5A61-486B-8660-AC6960FC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DB58D-D8D5-4910-977A-CF6BF529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C1F58-4BB5-4CA3-AF3B-00024CB2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1F9EA-64D9-4271-8F7B-82AE9D0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842BC-4ED3-4E6F-A52A-EAF1DF7D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BB1AE-EFF4-4841-A5B3-09E3E377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7C5-5926-43DF-B383-57C30852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CC77-D11D-4ECD-854E-1F76B62E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6A513-0F7A-4DD4-A048-8FF4E681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E8CD2-D322-452F-912B-D7C0AED9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A9B21-68C9-460B-9A58-DF0AA0B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3D7B-0A42-411D-9564-5C223D0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2D3F7-FE6A-46A3-B8D3-96E4AD7A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68003-3CF1-4B3A-9078-E1DDAD9D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13F88-172C-471F-AB8D-47331A0E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B5353-6167-428E-9318-8FE8CB28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B81DC-C5A4-4D4F-BFF5-DD208369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7E88-15CB-4475-A94E-08BBD612E0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06DF-15C5-423B-A671-7AA546C5DE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E1D5-3A95-4070-8F36-428F020903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B0F7-8B87-4953-8959-4FC0CB94CE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576A-2716-4451-863E-A4A3C3A5FB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A142-E0D4-4FA5-B40F-7BAD0E1E5A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3E2-3A88-487E-84A1-BDCE32550B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374A-9664-42D0-9FF0-E4A5A2BDBD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AEA7-544B-44C6-98FB-0A7C65EF12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8D71-DB29-4C7A-8625-7195077A3D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7A6-EE16-444D-A17A-6ED063D432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D65F-8474-4B97-83BF-8A9283EA25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1D4E-67D9-44DB-8501-2EF0CA33B6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7252-F4E1-465D-ADF3-65EC310E75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98989"/>
                </a:solidFill>
                <a:latin typeface="Calibri"/>
              </a:rPr>
              <a:t>Direct – Indirect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98989"/>
                </a:solidFill>
                <a:latin typeface="Calibri"/>
              </a:rPr>
              <a:t>Y – EN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98989"/>
                </a:solidFill>
                <a:latin typeface="Calibri"/>
              </a:rPr>
              <a:t>Pronoms Disjoints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2209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Remplace un nom de </a:t>
            </a:r>
            <a:r>
              <a:rPr b="1" lang="fr-FR" sz="2000" spc="-1" strike="noStrike">
                <a:solidFill>
                  <a:srgbClr val="404040"/>
                </a:solidFill>
                <a:latin typeface="Calibri"/>
              </a:rPr>
              <a:t>personne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introduit par </a:t>
            </a:r>
            <a:r>
              <a:rPr b="1" lang="fr-FR" sz="20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or (</a:t>
            </a:r>
            <a:r>
              <a:rPr b="1" lang="fr-FR" sz="2000" spc="-1" strike="noStrike">
                <a:solidFill>
                  <a:srgbClr val="404040"/>
                </a:solidFill>
                <a:latin typeface="Calibri"/>
              </a:rPr>
              <a:t>pour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533520" y="3048120"/>
            <a:ext cx="7619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 nom représente toujours 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2" name="Picture 9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3352680" y="4267080"/>
            <a:ext cx="262908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600200" y="2666880"/>
            <a:ext cx="22096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À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fr-FR" sz="6000" spc="-1" strike="noStrike">
                <a:solidFill>
                  <a:srgbClr val="404040"/>
                </a:solidFill>
                <a:latin typeface="Calibri"/>
              </a:rPr>
              <a:t>+</a:t>
            </a: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2286000" y="487692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2d2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Tahoma"/>
              </a:rPr>
              <a:t>Ce nom représente toujours une perso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2709720" y="1371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bjet indi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Picture 9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3962520" y="2209680"/>
            <a:ext cx="262872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6840" y="1904760"/>
            <a:ext cx="243828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Je parl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par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30"/>
          <p:cNvSpPr/>
          <p:nvPr/>
        </p:nvSpPr>
        <p:spPr>
          <a:xfrm>
            <a:off x="4038480" y="1752480"/>
            <a:ext cx="35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ma mè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609480" y="1980720"/>
            <a:ext cx="381024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Calibri"/>
              </a:rPr>
              <a:t>J’ai téléphoné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762120" y="3124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je _______  ai téléphon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6"/>
          <p:cNvSpPr/>
          <p:nvPr/>
        </p:nvSpPr>
        <p:spPr>
          <a:xfrm>
            <a:off x="3657600" y="182880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à Emilie et Thom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2057400" y="380880"/>
            <a:ext cx="5943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3b86"/>
                </a:solidFill>
                <a:latin typeface="Tahoma"/>
              </a:rPr>
              <a:t>Pronoms Personnels</a:t>
            </a: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263b86"/>
                </a:solidFill>
                <a:latin typeface="Tahoma"/>
              </a:rPr>
              <a:t>objet indir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7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6705720" y="758880"/>
            <a:ext cx="19238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Rectangle 8"/>
          <p:cNvSpPr/>
          <p:nvPr/>
        </p:nvSpPr>
        <p:spPr>
          <a:xfrm>
            <a:off x="609480" y="2514600"/>
            <a:ext cx="3810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mand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nn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voy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tr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ler à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0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6858000" y="1066680"/>
            <a:ext cx="192420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654"/>
                </a:solidFill>
                <a:latin typeface="Calibri"/>
              </a:rPr>
              <a:t>Verbes qui demandent des  pronoms </a:t>
            </a:r>
            <a:r>
              <a:rPr b="0" i="1" lang="en-US" sz="3600" spc="-1" strike="noStrike">
                <a:solidFill>
                  <a:srgbClr val="ffd654"/>
                </a:solidFill>
                <a:latin typeface="Calibri"/>
              </a:rPr>
              <a:t>objet indirec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380880" y="2819520"/>
            <a:ext cx="46483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fri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er une question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êter 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éléphoner à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5" descr="C:\Documents and Settings\vgrebert\Desktop\cartoon-people-figure[1].gif"/>
          <p:cNvPicPr/>
          <p:nvPr/>
        </p:nvPicPr>
        <p:blipFill>
          <a:blip r:embed="rId2"/>
          <a:stretch/>
        </p:blipFill>
        <p:spPr>
          <a:xfrm>
            <a:off x="7219800" y="1371600"/>
            <a:ext cx="192420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914040" y="3124080"/>
            <a:ext cx="7697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51"/>
              </a:spcBef>
              <a:spcAft>
                <a:spcPts val="751"/>
              </a:spcAft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es pronoms d’objet indirect </a:t>
            </a:r>
            <a:r>
              <a:rPr b="0" lang="en-US" sz="2400" spc="-1" strike="noStrike">
                <a:solidFill>
                  <a:srgbClr val="2483c8"/>
                </a:solidFill>
                <a:latin typeface="Calibri"/>
              </a:rPr>
              <a:t>me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et </a:t>
            </a:r>
            <a:r>
              <a:rPr b="0" lang="en-US" sz="2400" spc="-1" strike="noStrike">
                <a:solidFill>
                  <a:srgbClr val="2483c8"/>
                </a:solidFill>
                <a:latin typeface="Calibri"/>
              </a:rPr>
              <a:t>te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deviennent </a:t>
            </a:r>
            <a:r>
              <a:rPr b="0" lang="en-US" sz="2400" spc="-1" strike="noStrike">
                <a:solidFill>
                  <a:srgbClr val="2483c8"/>
                </a:solidFill>
                <a:latin typeface="Calibri"/>
              </a:rPr>
              <a:t>m’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et </a:t>
            </a:r>
            <a:r>
              <a:rPr b="0" lang="en-US" sz="2400" spc="-1" strike="noStrike">
                <a:solidFill>
                  <a:srgbClr val="2483c8"/>
                </a:solidFill>
                <a:latin typeface="Calibri"/>
              </a:rPr>
              <a:t>t’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devant un verbe dont la première lettre est une voyell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Footer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ahoma"/>
              </a:rPr>
              <a:t>© and ® 2011 Vista Higher Learning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Slide Numb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B.1-</a:t>
            </a:r>
            <a:fld id="{241E1601-A51F-4C33-9873-53B06B3CC4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334120" cy="14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761760" y="19810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404040"/>
                </a:solidFill>
                <a:latin typeface="Calibri"/>
              </a:rPr>
              <a:t>____________se placent devant le verbe conjugué au </a:t>
            </a:r>
            <a:r>
              <a:rPr b="0" i="1" lang="fr-FR" sz="4800" spc="-1" strike="noStrike">
                <a:solidFill>
                  <a:srgbClr val="404040"/>
                </a:solidFill>
                <a:latin typeface="Calibri"/>
              </a:rPr>
              <a:t>présent</a:t>
            </a:r>
            <a:r>
              <a:rPr b="0" lang="fr-FR" sz="4800" spc="-1" strike="noStrike">
                <a:solidFill>
                  <a:srgbClr val="404040"/>
                </a:solidFill>
                <a:latin typeface="Calibri"/>
              </a:rPr>
              <a:t> ou </a:t>
            </a:r>
            <a:r>
              <a:rPr b="0" i="1" lang="fr-FR" sz="4800" spc="-1" strike="noStrike">
                <a:solidFill>
                  <a:srgbClr val="404040"/>
                </a:solidFill>
                <a:latin typeface="Calibri"/>
              </a:rPr>
              <a:t>passé composé</a:t>
            </a:r>
            <a:r>
              <a:rPr b="0" lang="fr-FR" sz="4800" spc="-1" strike="noStrike">
                <a:solidFill>
                  <a:srgbClr val="40404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2"/>
          <a:stretch/>
        </p:blipFill>
        <p:spPr>
          <a:xfrm>
            <a:off x="1447920" y="4267080"/>
            <a:ext cx="533376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Les Pronoms </a:t>
            </a: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LUI </a:t>
            </a: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et</a:t>
            </a: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 LEU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85440" y="27432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__________sont placés avant le verbe conjugué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à ____________.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va offrir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à ses sœurs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Il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va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404040"/>
                </a:solidFill>
                <a:latin typeface="Calibri"/>
              </a:rPr>
              <a:t>leu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i="1" lang="fr-FR" sz="3200" spc="-1" strike="noStrike">
                <a:solidFill>
                  <a:srgbClr val="404040"/>
                </a:solidFill>
                <a:latin typeface="Calibri"/>
              </a:rPr>
              <a:t>offrir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des chocolats!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ronoms personnels remplacent un nom de personne ou de chose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7f7f7f"/>
              </a:buClr>
              <a:buSzPct val="7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orme du pronom personnel est déterminée par la fonction du nom qu’il remplace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14" name="Picture 5" descr="j0149481"/>
          <p:cNvPicPr/>
          <p:nvPr/>
        </p:nvPicPr>
        <p:blipFill>
          <a:blip r:embed="rId2"/>
          <a:stretch/>
        </p:blipFill>
        <p:spPr>
          <a:xfrm>
            <a:off x="7467480" y="380880"/>
            <a:ext cx="974880" cy="9907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MPj03142650000[1]"/>
          <p:cNvPicPr/>
          <p:nvPr/>
        </p:nvPicPr>
        <p:blipFill>
          <a:blip r:embed="rId3"/>
          <a:stretch/>
        </p:blipFill>
        <p:spPr>
          <a:xfrm>
            <a:off x="304920" y="304920"/>
            <a:ext cx="12952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e3"/>
                </a:solidFill>
                <a:latin typeface="Calibri"/>
              </a:rPr>
              <a:t>Les Pronoms Personn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514600" y="23623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A F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2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44193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Antoin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joue de la guit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838080" y="24382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nom sujet :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I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762120" y="36576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im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re lyc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12952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aim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3276360" y="114300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SUJE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609480" y="1828800"/>
            <a:ext cx="8534520" cy="4480920"/>
          </a:xfrm>
          <a:prstGeom prst="rect">
            <a:avLst/>
          </a:prstGeom>
          <a:noFill/>
          <a:ln w="9360">
            <a:solidFill>
              <a:srgbClr val="d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est sujet du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nto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_______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joue de la guit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d2d200"/>
                </a:solidFill>
                <a:uFillTx/>
                <a:latin typeface="Tahom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une pan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609480" y="1676520"/>
            <a:ext cx="77724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 complète  directement le ver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nom est introduit par un article défini, un adjectif possessif ou démonstrat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e/mon/ce pr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Picture 8" descr="j0212957"/>
          <p:cNvPicPr/>
          <p:nvPr/>
        </p:nvPicPr>
        <p:blipFill>
          <a:blip r:embed="rId2"/>
          <a:stretch/>
        </p:blipFill>
        <p:spPr>
          <a:xfrm>
            <a:off x="304920" y="304920"/>
            <a:ext cx="1523880" cy="9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609480" y="167652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place un nom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qui complète  directement le verb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vo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a nouvelle voi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vo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3" name="Picture 8" descr="j0212957"/>
          <p:cNvPicPr/>
          <p:nvPr/>
        </p:nvPicPr>
        <p:blipFill>
          <a:blip r:embed="rId2"/>
          <a:stretch/>
        </p:blipFill>
        <p:spPr>
          <a:xfrm>
            <a:off x="4419720" y="449568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1447920" y="243828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- L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654"/>
                </a:solidFill>
                <a:latin typeface="Calibri"/>
              </a:rPr>
              <a:t>Pronoms Personnel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2361960" y="990720"/>
            <a:ext cx="4647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alibri"/>
              </a:rPr>
              <a:t>Object Direct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60948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838080" y="19051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lacent devant le verbe conjugu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133720" y="27432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’ad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e livre de franç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1744920" y="35053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       ad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3124080" y="3505320"/>
            <a:ext cx="36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1358640" y="4267080"/>
            <a:ext cx="76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avons adoré ces vac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533520" y="48006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vons adoré</a:t>
            </a:r>
            <a:r>
              <a:rPr b="0" lang="en-US" sz="3200" spc="-1" strike="noStrike">
                <a:solidFill>
                  <a:srgbClr val="d2d2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1785600" y="4876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1-26T17:05:10Z</dcterms:modified>
  <cp:revision>105</cp:revision>
  <dc:subject/>
  <dc:title>Allez, viens! – Level 2</dc:title>
</cp:coreProperties>
</file>